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F6AFC-F3A2-47FD-AC4E-D7B90661CCDD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942CE-2D2E-4EB6-A67D-EABAAF121BA9}" type="slidenum">
              <a:rPr b="0" lang="ko-KR" sz="1200" spc="-1" strike="noStrike">
                <a:solidFill>
                  <a:srgbClr val="003366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64C8F-4EA8-44B0-BD45-B091BB47C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FBFAC-6C52-4E55-9B4D-BCBBCDB5B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B3909-141F-4B3F-AD41-B682A634F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94E83-4494-4A47-9DD3-EAA4BC1D8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EAC19-A351-493E-AD22-24A79C669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D0EAA-4B4E-4E36-898F-907E083E3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10CE3-45F0-444E-BA7F-F5543B644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B06BF-B48B-4ADA-AEEA-A01986E33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2E184-F058-4E5A-8C47-61C93E9B5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3BA42-939D-4697-A90D-BA147755B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38CFD-EF93-479C-BBA8-101EED087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8FD1C-D606-48BE-A030-EEA95F271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FF4C5-54E6-4B96-B57D-42B957EB8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5A0E0-6CB1-4D9A-894E-603B2664C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FD414-70CC-4E7A-B4BC-010A5EB9E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A21E4-9DF7-45C2-8DCA-412A649A3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9656F-BA87-47BE-BC8E-60FE7F591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12A2F-547D-4B58-A211-E45D8C557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6FA26-9EA8-4ADC-9894-6A03FF59E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4381A-07E9-403E-8863-0DDEB7565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EF6F3-B126-49FA-B4EB-A4877E61F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F0D73-6E52-4CDA-9558-F7D3A2A2D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35586-D01C-468E-BCD3-9E91BF553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B8DA5-E03D-429A-9141-0AC79C8D4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5698C-5671-4862-84C5-99DCAAE5FC6E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74994-5FB3-4001-A77D-968B26189E9A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제 </a:t>
            </a:r>
            <a:r>
              <a:rPr b="1" lang="en-US" sz="3600" spc="-1" strike="noStrike">
                <a:solidFill>
                  <a:srgbClr val="003366"/>
                </a:solidFill>
                <a:latin typeface="굴림"/>
              </a:rPr>
              <a:t>2 </a:t>
            </a: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장 조작적 절차의 메커닉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대구대 언어치료학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권 도 하 교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쉼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유창성 혹은 유창성에서 깨어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 정도 길이 혹은 기대하지 않았던 장소에서의 쉼 행동의 발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침묵 폐쇄 혹은 투쟁을 하는 중간에 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각적인 단서를 보이는 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입술 자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작은 소리를 수반하는 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을 수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단어전체반복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전체반복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로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상적인 비유창성인 단어전체반복과 말을 더듬은 단어전체반복 사이의 차이를 타당하게 또는 신뢰성 있게 구별 할 수 없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소정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underdefining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보다 과대정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overdefining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하는 방향으로 가서 잘못을 범하는 것이 더 낫다고 믿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폐쇄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막힘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)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과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투쟁 구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투쟁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독특한 다른 범주들 내에 쉽게 적합하지 않는 모든 종류의 비정상적인 행동에 대해 포괄적인 것으로 판명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”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라는 범주와 동일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소리 나는 흡기 또는 혀 내미는 것 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폐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의 차이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onture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이분법적인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간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between-word disfluencies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비유창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내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ithin-word disfluencies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저자의 비평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들을 두개의 분류로 감소시킨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칭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즉각적인 판별과 결과 제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맞지 않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혼란야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0" name="3주차-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240604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머뭇거림과 쉼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 다른 연구자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범주 속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혹은 막힘 혹은 긴장이란 범주 속에 그것을 포함시키는 것을 반대하여 독립된 범주 이름을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모든 화자들의 말에서 매우 일상적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의 경우는 말더듬으로 간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시적 혹은 가청적 행동으로 겉으로 드러나지 않는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overt stuttering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 경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른 수반행동이 있을 경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5560" y="835560"/>
            <a:ext cx="777708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삽입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insertion)</a:t>
            </a: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과 간투사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interjection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삽입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sertion)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간투사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terjection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로 추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번 이상 반복한다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"uh, uh"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간투사를 말더듬으로 계수하고 “단어전체” 반복으로 분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단어의 판별 및 계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W=stuttered word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특정한 단어의 발화 바로 앞에 혹은 동시에 한 개 이상의 말더듬 행동이 일어나는 것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본적인 결정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원적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각 단어는 단지 한번만 계산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시간 공간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time space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특정한 단어 앞에 나오는 단어의 마지막 음소로부터 그 단어의 마지막 음소까지를 의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 단어를 마지막으로 말을 하기 전에 여러 가지 상이한 행동들이 일어날 가능성이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개 더듬은 단어로 계수하는 이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계산의 편의성 및 특히 즉각적 혹은 실시간 계수하는데서 일관성 혹은 신뢰성을 위해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806400" y="1241280"/>
            <a:ext cx="7835400" cy="618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형태분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W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유무 계수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+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유형의 분류 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형태 혹은 유형에 관한 데이터는 적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연회복의 예견지표로서의 형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말더듬의 심한 정도를 결정하는 중요한 요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형태분석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환자의 훈련의 필요성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진전 과정의 결정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및 치료 종결 등을 결정할 때 도움됨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예후적인 가치도 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4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각자의 강화의 역사가 다름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조작적 혹은 반응적 반응 혹은 “유창성 실패”일 수도 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6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차적인 특성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구어 행동의 이면에 감춰져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7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말더듬 제거가 팔 흔들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눈 깜빡거리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머리 돌리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혀 내밀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 행동들과 같은 이차적인 특성들이 그 행동들에 대해서 특별한 주의를 기울이지 않아도 모두 없어지는 것을 관찰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시간재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말하는 것과 읽는 것의 시간 재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topwatch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용 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본규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을 포함한 실제적으로 말한 시간만 재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한 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명백하게 말하려고 노력하고 있는 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를 계속 작동하여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노력을 멈추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이머를 멈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짧은 쉼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를 멈추었다가 다시 시작하기에는 너무 시간이 짧아서 어렵기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이머를 계속 작동시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 측정과 동시에 말더듬 단어 계수를 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正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////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적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단어의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시간 계산하는데 사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43" name="직선 연결선 8"/>
          <p:cNvSpPr/>
          <p:nvPr/>
        </p:nvSpPr>
        <p:spPr>
          <a:xfrm>
            <a:off x="6429240" y="5286240"/>
            <a:ext cx="714600" cy="214560"/>
          </a:xfrm>
          <a:prstGeom prst="line">
            <a:avLst/>
          </a:prstGeom>
          <a:ln w="9360">
            <a:solidFill>
              <a:srgbClr val="2e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조작적 메커닉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의 정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더듬은 단어와 유창한 단어의 계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시간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더듬은 비율과 말한 속도의 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규준되는 형태와 말한 속도에 대한 데이터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관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음절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타이밍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의 신뢰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도표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수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6" name="3주차-1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 비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 분당 더듬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W/M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말더듬 측정 비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평균 더듬은 단어의 수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÷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÷ 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 1.5SW/M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은 음절 백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%SS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더듬은 단어 백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%SW, %WS; stuttered words, words stuttered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나 음절과 말한 전체 단어 혹은 음절을 모두 계수함으로 계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를 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5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단어 중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더듬은 단어를 계산한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 ÷ 253 × 100 = 5.9%WS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4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음절 중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더듬은 단어를 계산한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 ÷ 340 × 100 = 4.4%SS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하는 속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 또는 천천히 말하기를 포함한 어떠한 치료의 분석에서도 필요한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비율이 정상적인 구어의 질을 결정하는데 필요조건이냐 혹은 아니냐는 논쟁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범위 내에서 느린 비율로 말하는 경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이 아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속도와 말더듬 사이의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잡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행동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빠른 말하기 속도가 말더듬 일으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속도와 말더듬 사이에 매우 명백한 기능적인 관계를 발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 분당 말하거나 읽은 단어 또는 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S/M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PM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48" name="3주차-4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903761" fill="hold"/>
                                        <p:tgtEl>
                                          <p:spTgt spid="1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음절을 계수하는 규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를 계수하는 규칙과 약간 다름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 내에서 반복된 음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은 아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포함하는 각 음절을 계수하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각 삽입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terjection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를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매 분당 음절수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SPM)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계산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WS/M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 대한 계산과 동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.2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136SPM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단어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음절이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0/2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3/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77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따라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수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77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1.3 × .77 = 23.1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곱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수를 추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할 수 있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수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3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1.3 × 23 = 29.9SPM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곱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수를 추정 가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하기 속도 측정방법의 의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비율을 제공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치료를 평가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가 정상적으로 말을 하고 있으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또 치료를 종결할 준비가 되어 있는지를 결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정상적인 비유창성과 말하기 속도의 측정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하기 과업인 읽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독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대화 중에서 한 개 이상에 근거한 새로운 환산 수치 세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77×SPM= WS/M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및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.33×WS/M= SPM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란 공식으로 정확한 추산 가능을 발견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판단의 신뢰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관찰에 대한 일관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복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관련성을 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가 표적 행동을 정확하게 뿐만 아니라 지속적으로 정확하게 계수할 수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산방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점수 대 점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point-to-point)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ord-by-word)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 대 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yllable-by-syllable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 과정이 가장 좋다는데 일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에서 어느 단어 혹은 음절을 더듬었는지 또는 더듬지 않았는지를 확인 비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총계수 측정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분의 신뢰도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두 개의 전체 계수 사이에 일치한 양을 상관관계로 나타내거나 체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에서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고급연구에서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이 좋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도식화하기 혹은 그래프 그리기 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의 도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세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의 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             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세션 혹은 날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수행력을 시각적 피드백으로 제공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류를 발견하고 문제점을 해결하는데 매우 도움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814320" y="1123920"/>
            <a:ext cx="7819560" cy="72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채점하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785520" y="2571480"/>
            <a:ext cx="76928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채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coring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가 나타낸 반응의 정확도를 기록하는 것을 말한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×”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혹은 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/”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0” 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×”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강화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보통 토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/” 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이나 강화제없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838080" y="2361960"/>
            <a:ext cx="769320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표적 행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행동의 기본 단위를 정의하는 것이 중요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행동은 더듬은 단어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많은 권위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다음절 단어 내에서의 더듬은 음절을 계수하는 것을 더 선호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Ingham(1984b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단어를 계수하는 것이 더 적절한 것으로 증명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본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본 행동 단위로서 더듬은 단어와 유창한 단어를 사용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단어의 정의 및 판별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빈도 계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많이 사용하나 단점도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ooper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빈도수를 계수하지 않고도 효과적인 치료 가능하다고 주장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음절 계수 보다 더듬은 단어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학령 전 프로젝트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Preschool Project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음절과 더듬은 단어 두 종류로 말더듬을 분류하는 많은 데이터를 수집한 결과 유의한 차이가 없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11" name="3주차-2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음절 계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음절을 계수하는 것이 더듬은 단어를 계수하는 것보다 더 정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절 단어 내에서 한개 이상의 음절을 더듬을 수 있기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떤 환자들에게서 덜 더듬는 것으로 나타날 수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절 단어에서 두 번 이상의 말더듬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더듬은 단어와 동일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 속도를 나타내기 위해 음절들을 계수하는 것과 일관성을 맞추기 위해서 그렇게 하는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의 수와 단어의 수에 사이에는 중요한 차이가 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것이 우리가 더듬는 것은 단어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 속도는 음절로 보고하는 견지를 가지게 하였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판별 시스템에 포함될 사항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57160" y="22856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타당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임상가와 환자가 말더듬 행동이라고 믿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뢰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뢰성있게 계수할 수 있는 행동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겉으로 들어나거나 겉으로 드러나게 할 수 있거나 느낄 수 있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분류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Johnson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통적인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8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범주를 근거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9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깨어진 단어 대신”투쟁“으로 대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전체와 단어부분으로 나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추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장 쉼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tense pause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 입술을 고정하는 것과 같은 다른 어떤 행동을 수반하는 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. Yair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비율동적 발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진전을 수반한 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9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개 범주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비유창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은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4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분법적 시스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하고 신뢰성 있게 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할 수 있는 용어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 분류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심이 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수하라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놓치거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수하지 않는 것 보다 낫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3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참조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표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3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정상적인 비유창성과 더듬은 단어의 유형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예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및 예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838080" y="2361960"/>
            <a:ext cx="769320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3T22:34:36Z</dcterms:created>
  <dc:creator>kwon</dc:creator>
  <dc:description/>
  <dc:language>en-US</dc:language>
  <cp:lastModifiedBy>user</cp:lastModifiedBy>
  <dcterms:modified xsi:type="dcterms:W3CDTF">2013-11-13T02:10:57Z</dcterms:modified>
  <cp:revision>62</cp:revision>
  <dc:subject/>
  <dc:title>제 2 장 조작적 절차의 메커닉</dc:title>
</cp:coreProperties>
</file>