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B9A41-9122-4BF4-9BA4-3DE12609E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CFCAC-56B2-433A-B62D-5AFA61378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845B4-9B2B-4BAC-AFFC-7846011BA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EDF90-F407-4018-9907-6F72B8F77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648DF-E6D4-4D42-A414-AAFC2499D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C32B9-0B93-405F-AF9C-3AA7CA588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4C8A1-8BCF-48A9-A545-07A868CA5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9CCB7-186D-4283-A6D9-7E0968AB5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5EED3-8D6F-442B-BF86-69A451D3E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FA6FD-D68A-4E63-A5BB-DDB27FD10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69281-8E10-41E6-AA50-2C72B1A6F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A6ADA-4C65-4510-88BE-2E53C089C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D2821-84D0-4BC8-937F-45744EF8C589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대구한의대부속 대구한방병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발표자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최창항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Welcome to Paradis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356000" y="1599840"/>
            <a:ext cx="47880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물리치료사 선생님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6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출근시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8:3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업무시작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9:0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~ 5:3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점심시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12:30 ~ 2:0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실습일지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기타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라인을 잘 타야 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차로 가는 게 좋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인사 가는 게 좋음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79280" y="2606760"/>
            <a:ext cx="4038840" cy="25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수고하셨습니다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7:45:20Z</dcterms:created>
  <dc:creator>경상대 컴퓨터실 프린터</dc:creator>
  <dc:description/>
  <dc:language>en-US</dc:language>
  <cp:lastModifiedBy>경상대 컴퓨터실 프린터</cp:lastModifiedBy>
  <dcterms:modified xsi:type="dcterms:W3CDTF">2009-04-09T07:47:38Z</dcterms:modified>
  <cp:revision>2</cp:revision>
  <dc:subject/>
  <dc:title>대구한의대부속 대구한방병원</dc:title>
</cp:coreProperties>
</file>