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A952F-F795-4A95-8717-154ED1E6E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C1ECF-8B5A-420A-B2FC-9A8721CEA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8C346-A663-4A79-BF67-4B4A3B961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1EC8B-B3D6-4C28-8689-BE71BC1F7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0557D-CEB8-413F-9D63-F811F89E0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4DB90-0E16-417E-816B-E9318E3BE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DE479-7AAC-4D31-8D3B-A99168F67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5A84D-DD7E-4672-8F3E-B0601B1E2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F8A88-3008-4E06-8FF0-F67172D2E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1DA06-05C1-4A2B-9A35-6C3491C91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09ECC-0557-47D8-96B2-EDB24DC5C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EED15-E5FF-46CA-9A95-547BF4F05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0E2ED-3B71-4779-9B7F-A3BA28C33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8E651-C69A-46AD-A72C-E6246DA04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F1193-42E2-4703-B24B-68ADE3276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5376F-FFCA-4AD4-82BF-174C0DBED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40FBF-4F30-408F-B55B-0996162BE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6B2DC-7530-4487-9D8D-34080C426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E0E6F-BB9D-4A56-A73B-AD70621CA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7B2ED-A4B7-4379-A1AB-9A06980AF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907F4-EE3D-4B3A-9029-7F6A27544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4EC59-8105-4418-9EC2-B8C77EEB4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E2862-A5C3-4643-9537-30D098F84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E86B6-1AC7-4CFE-B1E6-001A5A116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1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4E3DE-C21C-48EC-899E-3020CAE949E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53D5B-48F2-4C0D-87DA-19DC303D901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7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장 행동관리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371600" y="3645000"/>
            <a:ext cx="64008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고전행동주의와 신행동주의 차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-R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과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-R-S (ABC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수정의 관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거 또는 증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성취동기 향상 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보상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칭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흥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동기부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효능감과 귀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교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행동수정 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바람직한 행동의 증가 전략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적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적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토큰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할머니 법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remark Principle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계약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바람직하지 못한 행동의 감소 전략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소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연대책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학급관리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실의 물리적 배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의 조 편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좌석배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실생활 규칙 제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질문</a:t>
            </a: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?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979640" y="1844640"/>
            <a:ext cx="475308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0T03:46:38Z</dcterms:created>
  <dc:creator>.</dc:creator>
  <dc:description/>
  <dc:language>en-US</dc:language>
  <cp:lastModifiedBy>f</cp:lastModifiedBy>
  <dcterms:modified xsi:type="dcterms:W3CDTF">2007-05-02T01:29:10Z</dcterms:modified>
  <cp:revision>9</cp:revision>
  <dc:subject/>
  <dc:title>제 7장 체육교육과정</dc:title>
</cp:coreProperties>
</file>