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C463B-AC03-4632-94B1-61F39E8DC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D8B59-76D4-4B94-B3FC-454694E24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F0219-E569-48BD-BDEF-379B40FCD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1659F-F923-43BB-95DB-3B923C07E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D7471-F4FF-44FC-A709-ACEDCCACC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66E46-F0C8-431D-AD78-87687115B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7F1AC-0742-4AB3-8AAA-2F6281BC3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013BA-F403-4D98-96BF-AF59B4252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D5E17-D64B-4883-83A8-FD56432C6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F4E1E-57A1-4D7D-8E7A-DCA97CC15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25400-1B4E-4EF6-BFB9-D84072447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C0460-06CE-4156-8E4F-423726D26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27DFD-872F-4032-A110-690B21D07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47DEA-8161-4EC7-A8E4-46B07EB3C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05E1D-A2AF-4456-A77F-29CFB46AE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FC5F3-5756-4570-AA00-1DAB9B0E9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7CE78-4113-491B-80FE-25BBC9C7A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A7F57-62BE-4428-9B4F-9E1B6FA0B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5ACD0-C0F5-44C0-BA54-877A4A857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60EE4-A2D7-4CCC-A7D8-1EC4E5561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E7CB2-DEC8-477D-881D-A76011D90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D573D-5818-4C3D-90B5-01A352EE4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49B92-36C1-447B-8D48-1EB403CEE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D2907-8DAC-4A59-A3E1-CD3160FD0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80177-29D2-4C19-8317-496547632B8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A7533-BAC3-4659-879C-C9A1E3940B5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68320"/>
            <a:ext cx="777240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cc"/>
                </a:solidFill>
                <a:latin typeface="굴림"/>
              </a:rPr>
              <a:t>제 </a:t>
            </a:r>
            <a:r>
              <a:rPr b="0" lang="en-US" sz="5400" spc="-1" strike="noStrike">
                <a:solidFill>
                  <a:srgbClr val="ffffcc"/>
                </a:solidFill>
                <a:latin typeface="굴림"/>
              </a:rPr>
              <a:t>8</a:t>
            </a:r>
            <a:r>
              <a:rPr b="0" lang="zh-CN" sz="5400" spc="-1" strike="noStrike">
                <a:solidFill>
                  <a:srgbClr val="ffffcc"/>
                </a:solidFill>
                <a:latin typeface="굴림"/>
              </a:rPr>
              <a:t>장 시각장애아 교육</a:t>
            </a:r>
            <a:endParaRPr b="0" lang="en-US" sz="5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법적 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두 눈의 교정시력이 각각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0.04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미만인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시력의 손상이 심하여 시각에 의해 학습과제를 수행할 수 없고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촉각이나 청각을 학습의 주요 수단으로 사용하는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두 눈의 교정시력이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0.04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이상이나 특정의 학습매체 또는 과제의 수정을 통해서도 시각적 과제수행이 어려운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특정의 광학기구 학습매체 또는 설비를 통하여서만 시각적 과제수행을 할 수 있는 자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교육적 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맹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점자나 촉각 및 청각매체를 통해서 교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저시력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잔존시력을 활용하여 문자를 확대하거나 광학적인 기구를 사용하여 교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기타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손상 시기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시각 표상의 유무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) 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선천성과 후천성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3-5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세 또는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세를 기준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선천맹과 후천맹으로 구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눈의 구조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눈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각중추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누기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결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외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각막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공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홍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모양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맥락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망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방수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정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리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망막과 시각중추를 이어주는 시신경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는 시신경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신경교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색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외측슬상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방성 등으로 구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빛에 대한 반응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각막 – 동공 – 홍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빛의 양 조절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정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정체 – 유리체 – 망막 – 시신경과 시신경 교차 – 외측슬상체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방선 – 두뇌의 피질에 도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cc"/>
                </a:solidFill>
                <a:latin typeface="굴림"/>
              </a:rPr>
              <a:t>원인 및 출현율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인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안질환 외 다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출현율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0.03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우리나라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- 0.07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언어지도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의미보다는 언어 자체를 즐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다양한 음성적 표현의 부족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큰 말소리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말의 속도가 느림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몸짓이나 입술 움직임이 적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점자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듣기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저시력학생의 읽기 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Vygotsky</a:t>
            </a: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의 교육에 대한 시각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..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교사는 모든 것을 가지고 있으나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아동은 가진 것이 전혀 없는 잘못된 원칙에 의존하는 수업의 결과에서 나타난 아동의 수동성은 과학적 사고의 시각에서 엄청난 죄악이다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 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.. passivity of the student is the greatest sin from a scientific point of view, since it relies on the false principle that the teacher is everything and the pupil nothing.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인용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: Bozhovich and Slavina 1972, p.165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cc"/>
                </a:solidFill>
                <a:latin typeface="굴림"/>
              </a:rPr>
              <a:t>Any questions?</a:t>
            </a:r>
            <a:endParaRPr b="0" lang="en-US" sz="6000" spc="-1" strike="noStrike">
              <a:solidFill>
                <a:srgbClr val="ffffcc"/>
              </a:solidFill>
              <a:latin typeface="굴림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124000" y="1844640"/>
            <a:ext cx="489600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1T03:28:55Z</dcterms:created>
  <dc:creator>.</dc:creator>
  <dc:description/>
  <dc:language>en-US</dc:language>
  <cp:lastModifiedBy>f</cp:lastModifiedBy>
  <dcterms:modified xsi:type="dcterms:W3CDTF">2007-05-15T06:52:01Z</dcterms:modified>
  <cp:revision>17</cp:revision>
  <dc:subject/>
  <dc:title>제 8장 순회교육</dc:title>
</cp:coreProperties>
</file>