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44A1A-7BC8-481D-88E3-15ED32C51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628BC-96D7-400D-AB2D-AD2334F9F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BC987-AB2F-4E7D-8933-C0338CF1A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CDEC8-2697-424E-AC82-C413F7E68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1FB5A-6C10-406E-B59A-FC732B5D0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DF263-D3C0-4647-B7D2-65C1EF252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D3522-10DC-438E-9326-6AD3EB76A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DDFAF-5DCB-4C04-9F60-C33936E9A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ED3D2-E759-4FD5-A2DC-1B5568E4F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45A27-73DD-4071-9305-013EE8BF3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C25D1-0B79-4FC8-B33C-8B77A8B52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E379F-A06F-424C-8F3A-684437E20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D28B1-0CCF-4FC8-B15B-6761439DB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919ED-6C03-4016-9606-CA9CB40C7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1F8E9-43E7-42C8-8CA3-E7B59A959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DED71-1583-4F23-A514-09B6679E9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5EE43-8663-42A9-8299-70CB969AC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B4038-EFC3-4F86-846E-EBF41DF23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61D22-9CE5-4646-867E-AD59FBEE0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8EA6D-F35E-4F0C-AC48-0A8559AEE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0CAAD-B858-4AF1-9E7F-E4797180E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263FD-EFFC-45BE-9CCA-8943CEC29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23A82-0330-441A-AAB8-5E213DCEE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8A15E-2CC5-43CF-8A27-68256FE22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A5C80-9CE6-49C6-823E-6860424B3BF3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684E1-0E2E-4654-A36D-92783F813803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5</a:t>
            </a: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장 학습장애아 교육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념과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IQ 85-100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기교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1.7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편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부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통 이상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환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low achievemen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지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IQ 85-70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반복 학습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slow learner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e5ffff"/>
                </a:solidFill>
                <a:latin typeface="굴림"/>
              </a:rPr>
              <a:t>원인 및 출현율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추신경계의 이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좌반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선형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위계적과 체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논리적과 계획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청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실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우반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종합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무선적과 비형식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직관적과 우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공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상 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두뇌의 미세 기능 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보차이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인지적 결함의 오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원인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반적인 원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보처리의 한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경적인 영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특수아동 출현율 중 가장 높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학습장애의 분류 및 특성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의 유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특정학습장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읽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쓰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말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듣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셈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생각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80%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 읽기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행동적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진단 평가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특수교육진흥법에서는 학습장애를 진단 평가하는 도구로는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능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2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초학습기능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3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학습준비도 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4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시지각발달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5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각운동발달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6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시각운동통합발달검사 등을 제시하였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진정한 평가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수행평가와 교육과정중심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Authentic Assessment: ‘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실제’의 생활에서 읽고 쓰는 능력을 가장 밀접하게 사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속적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수학습에 정보를 제공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육과정에 통합되어져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발달에 있어서 적절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자아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평가를 인식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활동적인 협동학습이 가능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참고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Fuuntas &amp; Pinnell, 2001, p.484)  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교육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습의 필수조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주의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중재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기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동기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효과적인 교수활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읽기에 대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쓰기에 대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난독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수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생각하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질문하세요</a:t>
            </a: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!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2484360" y="1916280"/>
            <a:ext cx="417528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9T03:52:24Z</dcterms:created>
  <dc:creator>.</dc:creator>
  <dc:description/>
  <dc:language>en-US</dc:language>
  <cp:lastModifiedBy>f</cp:lastModifiedBy>
  <dcterms:modified xsi:type="dcterms:W3CDTF">2007-04-05T02:46:59Z</dcterms:modified>
  <cp:revision>8</cp:revision>
  <dc:subject/>
  <dc:title>제 5장 과학교육과정</dc:title>
</cp:coreProperties>
</file>